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2.gif" ContentType="image/gif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13.png" ContentType="image/png"/>
  <Override PartName="/ppt/media/image41.gif" ContentType="image/gif"/>
  <Override PartName="/ppt/media/image1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6A53-F936-46F2-9D0E-FDFFAB246E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968D-3BF6-46E6-A487-3D85131FC1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AA2-D896-4BAB-9598-17412D24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054-38C1-4345-AFB8-E5C36A5F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484-7B2C-4CB6-A9D9-18502D7C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9B5-ADC1-4759-B115-8BA48D90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D2E-6DE8-43F4-AD15-5865581A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440-ED3C-4EA6-A0C8-B6F68E49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12B-707F-4040-AD32-2CF64DA8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1C6-C35F-4A4F-BC43-EB4DF523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D2A-1BDF-4B0D-BC55-8116ECFF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298-5E44-4F1D-BBE3-FEA83E1C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399-D0A9-48BD-A16F-64560EE9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E37-329F-4CB9-BC0F-78E83D07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1EBD-D2FD-42C5-9C49-A784A0C78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go.mail.ru/frame.html?imgurl=http://bratsche.narod.ru/liszt.jpg&amp;pageurl=http://bratsche.narod.ru/liszt.html&amp;id=27960611&amp;iid=4&amp;imgwidth=300&amp;imgheight=372&amp;imgsize=80638&amp;images_links=b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eneja.com/forums/uploads/av-3078.gif&amp;pageurl=http://www.eneja.com/forums/index.php?s=ac1977548c37a1c0a745f3e946c37a48&amp;showuser=3078&amp;id=17401468&amp;iid=4&amp;imgwidth=130&amp;imgheight=113&amp;imgsize=11060&amp;images_links=b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gif"/><Relationship Id="rId3" Type="http://schemas.openxmlformats.org/officeDocument/2006/relationships/image" Target="../media/image11.jpeg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unhome.ru/mp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nhome.ru/mp3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go.mail.ru/click?url=http%3A%2F%2Fwww.tver-shop.ru%2Fimages%2Fother.gif&amp;title=imgfull"/>
          <p:cNvPicPr/>
          <p:nvPr/>
        </p:nvPicPr>
        <p:blipFill>
          <a:blip r:embed="rId1"/>
          <a:stretch/>
        </p:blipFill>
        <p:spPr>
          <a:xfrm>
            <a:off x="755640" y="189000"/>
            <a:ext cx="7572240" cy="5929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571760" y="1214280"/>
            <a:ext cx="657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66cc"/>
                </a:solidFill>
                <a:latin typeface="Times New Roman"/>
              </a:rPr>
              <a:t>Музыка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66cc"/>
                </a:solidFill>
                <a:latin typeface="Times New Roman"/>
              </a:rPr>
              <a:t>             </a:t>
            </a:r>
            <a:r>
              <a:rPr b="0" i="1" lang="en-US" sz="6000" spc="-1" strike="noStrike">
                <a:solidFill>
                  <a:srgbClr val="ff66cc"/>
                </a:solidFill>
                <a:latin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66cc"/>
                </a:solidFill>
                <a:latin typeface="Times New Roman"/>
              </a:rPr>
              <a:t>                 </a:t>
            </a:r>
            <a:r>
              <a:rPr b="0" i="1" lang="en-US" sz="6000" spc="-1" strike="noStrike">
                <a:solidFill>
                  <a:srgbClr val="ff66cc"/>
                </a:solidFill>
                <a:latin typeface="Times New Roman"/>
              </a:rPr>
              <a:t>здоровье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5013360"/>
            <a:ext cx="475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ТЕНКОВА 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ца 10 класса ГОУ города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Ш «Школа здоровья» № 3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286000" y="24289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Для стабилизации и активизации деятельности мозга подходят произведения Моца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Вольфганг Амадей Моцарт"/>
          <p:cNvPicPr/>
          <p:nvPr/>
        </p:nvPicPr>
        <p:blipFill>
          <a:blip r:embed="rId1"/>
          <a:stretch/>
        </p:blipFill>
        <p:spPr>
          <a:xfrm>
            <a:off x="1071720" y="357120"/>
            <a:ext cx="1565280" cy="2071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images.cards.mail.ru/e7/2c/9f8c01aeb669ae46ca36a27f58e12ce7.jpg"/>
          <p:cNvPicPr/>
          <p:nvPr/>
        </p:nvPicPr>
        <p:blipFill>
          <a:blip r:embed="rId2"/>
          <a:stretch/>
        </p:blipFill>
        <p:spPr>
          <a:xfrm>
            <a:off x="6000840" y="4522680"/>
            <a:ext cx="2857320" cy="2210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4214880" y="646560"/>
            <a:ext cx="392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cc"/>
                </a:solidFill>
                <a:latin typeface="Arial"/>
              </a:rPr>
              <a:t>Как могуч твой чарующий звук! </a:t>
            </a:r>
            <a:br>
              <a:rPr sz="2000"/>
            </a:b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Моцарт. Волшебная фле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286000" y="857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От головной боли спасет полонез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Оги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500040" y="25002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«Фиделио» Бетхо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Людвиг ван Бетховен"/>
          <p:cNvPicPr/>
          <p:nvPr/>
        </p:nvPicPr>
        <p:blipFill>
          <a:blip r:embed="rId1"/>
          <a:stretch/>
        </p:blipFill>
        <p:spPr>
          <a:xfrm>
            <a:off x="928800" y="928800"/>
            <a:ext cx="1143000" cy="151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im4-tub.mail.ru/i?id=27960611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86760" y="4665600"/>
            <a:ext cx="1481040" cy="183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http://www.classicmp3.ru/images/photo/small/85_84_oginskiy.jpg"/>
          <p:cNvPicPr/>
          <p:nvPr/>
        </p:nvPicPr>
        <p:blipFill>
          <a:blip r:embed="rId4"/>
          <a:stretch/>
        </p:blipFill>
        <p:spPr>
          <a:xfrm>
            <a:off x="6929280" y="214200"/>
            <a:ext cx="1719360" cy="17431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9"/>
          <p:cNvSpPr/>
          <p:nvPr/>
        </p:nvSpPr>
        <p:spPr>
          <a:xfrm>
            <a:off x="3143160" y="4786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«Венгерская рапсодия» Ли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Жизнь без головной боли"/>
          <p:cNvPicPr/>
          <p:nvPr/>
        </p:nvPicPr>
        <p:blipFill>
          <a:blip r:embed="rId5"/>
          <a:stretch/>
        </p:blipFill>
        <p:spPr>
          <a:xfrm>
            <a:off x="3714840" y="1428840"/>
            <a:ext cx="2214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im4-tub.mail.ru/i?id=17401468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89000"/>
            <a:ext cx="1714320" cy="16430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5364000" y="3357720"/>
            <a:ext cx="360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Бессонницу можно вылечить сюитой «Пер Гюнт» Грига, «Грустный вальс» Сибелиуса, пьесами Чайковског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4" descr="http://go.mail.ru/click?url=http%3A%2F%2Fbambook.com%2Fbook1%2Fimages%2Fsmall%2Fneg53.jpg&amp;title=imgfull"/>
          <p:cNvPicPr/>
          <p:nvPr/>
        </p:nvPicPr>
        <p:blipFill>
          <a:blip r:embed="rId3"/>
          <a:stretch/>
        </p:blipFill>
        <p:spPr>
          <a:xfrm>
            <a:off x="1476360" y="1557360"/>
            <a:ext cx="2057400" cy="23144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http://im2-tub.mail.ru/i?id=43051046&amp;tov=2"/>
          <p:cNvPicPr/>
          <p:nvPr/>
        </p:nvPicPr>
        <p:blipFill>
          <a:blip r:embed="rId4"/>
          <a:stretch/>
        </p:blipFill>
        <p:spPr>
          <a:xfrm>
            <a:off x="3635280" y="1413000"/>
            <a:ext cx="1790640" cy="2428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http://www.oldtaganrog.net.ru/item_img/000537.jpg"/>
          <p:cNvPicPr/>
          <p:nvPr/>
        </p:nvPicPr>
        <p:blipFill>
          <a:blip r:embed="rId5"/>
          <a:stretch/>
        </p:blipFill>
        <p:spPr>
          <a:xfrm>
            <a:off x="3203640" y="4005360"/>
            <a:ext cx="1922400" cy="2714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Ян Сибелиус"/>
          <p:cNvPicPr/>
          <p:nvPr/>
        </p:nvPicPr>
        <p:blipFill>
          <a:blip r:embed="rId6"/>
          <a:stretch/>
        </p:blipFill>
        <p:spPr>
          <a:xfrm>
            <a:off x="6732720" y="134136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1" descr="http://www.chtivo.ru/getpic3d/16777215/500/231938.jpg"/>
          <p:cNvPicPr/>
          <p:nvPr/>
        </p:nvPicPr>
        <p:blipFill>
          <a:blip r:embed="rId7"/>
          <a:stretch/>
        </p:blipFill>
        <p:spPr>
          <a:xfrm>
            <a:off x="179280" y="4005360"/>
            <a:ext cx="2357640" cy="26431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8"/>
          <p:cNvSpPr/>
          <p:nvPr/>
        </p:nvSpPr>
        <p:spPr>
          <a:xfrm>
            <a:off x="1857240" y="50004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66cc"/>
                </a:solidFill>
                <a:latin typeface="Times New Roman"/>
              </a:rPr>
              <a:t>Музыка   и     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44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44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44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44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44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44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214720" y="2714760"/>
            <a:ext cx="62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Прослушивание музыки в сочетании с определенными расслабляющими упражнениями помогает пациентам с болями в спине чувствовать себя гораздо лучше. У них не только уменьшается болевой синдром, но и улучшается сон. Для эффективного лечения достаточно 25 минут музыкотерапии в ден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http://www.sunhome.ru/UsersGallery/Journal/12200520144929.jpg"/>
          <p:cNvPicPr/>
          <p:nvPr/>
        </p:nvPicPr>
        <p:blipFill>
          <a:blip r:embed="rId1"/>
          <a:stretch/>
        </p:blipFill>
        <p:spPr>
          <a:xfrm>
            <a:off x="571680" y="1714680"/>
            <a:ext cx="1562040" cy="4500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785880" y="500040"/>
            <a:ext cx="650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Calibri"/>
              </a:rPr>
              <a:t>Музыка   и  …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28760" y="294840"/>
            <a:ext cx="7885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Как показывают музыкально-терапевтические исследования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во многих клиниках ми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большинство музыкальных произведений выдающихся композиторов (Моцарт, Григ, Лист, Вивальди...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) построено таким образ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чт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Calibri"/>
              </a:rPr>
              <a:t>оказывает положительное влияние на интеллект, психику и даже на работу внутренних орг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go.mail.ru/click?url=http%3A%2F%2Fdvt-music.narod.ru%2FMuzslov-18.files%2Fimage006.jpg&amp;title=imgfull"/>
          <p:cNvPicPr/>
          <p:nvPr/>
        </p:nvPicPr>
        <p:blipFill>
          <a:blip r:embed="rId1"/>
          <a:stretch/>
        </p:blipFill>
        <p:spPr>
          <a:xfrm>
            <a:off x="500040" y="2643120"/>
            <a:ext cx="8215200" cy="3286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im5-tub.mail.ru/i?id=45453918&amp;tov=5"/>
          <p:cNvPicPr/>
          <p:nvPr/>
        </p:nvPicPr>
        <p:blipFill>
          <a:blip r:embed="rId2"/>
          <a:stretch/>
        </p:blipFill>
        <p:spPr>
          <a:xfrm>
            <a:off x="2857680" y="2500200"/>
            <a:ext cx="55720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57120" y="428760"/>
            <a:ext cx="80726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Людям, страдающим сердечнососудистыми заболеваниями, полезно слушать струнные инструменты - скрипку, гитару, арф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Заболевания легких леч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труба и тромб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http://i018.radikal.ru/0710/7c/84ef095fd5b9.jpg"/>
          <p:cNvPicPr/>
          <p:nvPr/>
        </p:nvPicPr>
        <p:blipFill>
          <a:blip r:embed="rId1"/>
          <a:stretch/>
        </p:blipFill>
        <p:spPr>
          <a:xfrm>
            <a:off x="6300720" y="1197000"/>
            <a:ext cx="2009880" cy="392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http://i028.radikal.ru/0710/b5/04f5ef5d0913.jpg"/>
          <p:cNvPicPr/>
          <p:nvPr/>
        </p:nvPicPr>
        <p:blipFill>
          <a:blip r:embed="rId2"/>
          <a:stretch/>
        </p:blipFill>
        <p:spPr>
          <a:xfrm>
            <a:off x="214200" y="1214280"/>
            <a:ext cx="2602080" cy="29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003.radikal.ru/0710/9e/65f99f44ae35.jpg"/>
          <p:cNvPicPr/>
          <p:nvPr/>
        </p:nvPicPr>
        <p:blipFill>
          <a:blip r:embed="rId3"/>
          <a:stretch/>
        </p:blipFill>
        <p:spPr>
          <a:xfrm>
            <a:off x="3357720" y="3000240"/>
            <a:ext cx="19317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5"/>
          <p:cNvSpPr/>
          <p:nvPr/>
        </p:nvSpPr>
        <p:spPr>
          <a:xfrm>
            <a:off x="357120" y="142920"/>
            <a:ext cx="807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Красивое классическое пение благотворно влияет на селезен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Кстати, именно среди оперных певцов очень много долгожителей, потому что пение способствует развитию сердечнососудистой и дыхательной систем. Поэтому не надо стесняться петь самим - это добавит не только положительных эмоций, но и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Концерт оперной певицы мирового масштаба Елены Образцовой в Витебске"/>
          <p:cNvPicPr/>
          <p:nvPr/>
        </p:nvPicPr>
        <p:blipFill>
          <a:blip r:embed="rId1"/>
          <a:stretch/>
        </p:blipFill>
        <p:spPr>
          <a:xfrm>
            <a:off x="108000" y="98100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espana.ru/rus/espanola/kp/img/81779.jpg"/>
          <p:cNvPicPr/>
          <p:nvPr/>
        </p:nvPicPr>
        <p:blipFill>
          <a:blip r:embed="rId2"/>
          <a:stretch/>
        </p:blipFill>
        <p:spPr>
          <a:xfrm>
            <a:off x="2340000" y="692280"/>
            <a:ext cx="137016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http://www.tk.crimea.ua/images/news/200803051431020.hal_b.jpg"/>
          <p:cNvPicPr/>
          <p:nvPr/>
        </p:nvPicPr>
        <p:blipFill>
          <a:blip r:embed="rId3"/>
          <a:stretch/>
        </p:blipFill>
        <p:spPr>
          <a:xfrm>
            <a:off x="3780000" y="98100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Сергей Лемешев "/>
          <p:cNvPicPr/>
          <p:nvPr/>
        </p:nvPicPr>
        <p:blipFill>
          <a:blip r:embed="rId4"/>
          <a:stretch/>
        </p:blipFill>
        <p:spPr>
          <a:xfrm>
            <a:off x="5867280" y="692280"/>
            <a:ext cx="1162080" cy="1928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Знаменитый российский баритон Дмитрий Хворостовский и корейская оперная певица Суми Йо 13 февраля выступят на сцене Кремлевского дворца."/>
          <p:cNvPicPr/>
          <p:nvPr/>
        </p:nvPicPr>
        <p:blipFill>
          <a:blip r:embed="rId5"/>
          <a:stretch/>
        </p:blipFill>
        <p:spPr>
          <a:xfrm>
            <a:off x="7093080" y="1197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http://www.babyblog.ru/userimg/Nastyona/371.jpg"/>
          <p:cNvPicPr/>
          <p:nvPr/>
        </p:nvPicPr>
        <p:blipFill>
          <a:blip r:embed="rId6"/>
          <a:stretch/>
        </p:blipFill>
        <p:spPr>
          <a:xfrm>
            <a:off x="3635280" y="4797360"/>
            <a:ext cx="133992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НИКИТА_003.jpg"/>
          <p:cNvPicPr/>
          <p:nvPr/>
        </p:nvPicPr>
        <p:blipFill>
          <a:blip r:embed="rId7"/>
          <a:stretch/>
        </p:blipFill>
        <p:spPr>
          <a:xfrm>
            <a:off x="6012000" y="4653000"/>
            <a:ext cx="2786040" cy="20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Изображение"/>
          <p:cNvPicPr/>
          <p:nvPr/>
        </p:nvPicPr>
        <p:blipFill>
          <a:blip r:embed="rId8"/>
          <a:stretch/>
        </p:blipFill>
        <p:spPr>
          <a:xfrm>
            <a:off x="285840" y="478620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Большой театр"/>
          <p:cNvPicPr/>
          <p:nvPr/>
        </p:nvPicPr>
        <p:blipFill>
          <a:blip r:embed="rId1"/>
          <a:stretch/>
        </p:blipFill>
        <p:spPr>
          <a:xfrm>
            <a:off x="468360" y="333360"/>
            <a:ext cx="8358120" cy="60008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7"/>
          <p:cNvSpPr/>
          <p:nvPr/>
        </p:nvSpPr>
        <p:spPr>
          <a:xfrm>
            <a:off x="1071720" y="4000680"/>
            <a:ext cx="7215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alibri"/>
              </a:rPr>
              <a:t>Поэтому не надо стесняться петь самим - это добавит не только положительных эмоций, но и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go.mail.ru/click?url=http%3A%2F%2Fsch429-4g.narod.ru%2Flessons.files%2Flessons.files%2Fimage001.gif&amp;title=imgfull"/>
          <p:cNvPicPr/>
          <p:nvPr/>
        </p:nvPicPr>
        <p:blipFill>
          <a:blip r:embed="rId1"/>
          <a:stretch/>
        </p:blipFill>
        <p:spPr>
          <a:xfrm>
            <a:off x="468360" y="1916280"/>
            <a:ext cx="8177040" cy="157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go.mail.ru/click?url=http%3A%2F%2Fwww.school.websib.ru%2Fyarkovo%2F_borders%2FAG00319_.GIF&amp;title=imgfull"/>
          <p:cNvPicPr/>
          <p:nvPr/>
        </p:nvPicPr>
        <p:blipFill>
          <a:blip r:embed="rId2"/>
          <a:stretch/>
        </p:blipFill>
        <p:spPr>
          <a:xfrm>
            <a:off x="1258920" y="549360"/>
            <a:ext cx="1619280" cy="117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go.mail.ru/click?url=http%3A%2F%2Fdvt-music.narod.ru%2FMuzslov-18.files%2Fimage006.jpg&amp;title=imgfull"/>
          <p:cNvPicPr/>
          <p:nvPr/>
        </p:nvPicPr>
        <p:blipFill>
          <a:blip r:embed="rId3"/>
          <a:stretch/>
        </p:blipFill>
        <p:spPr>
          <a:xfrm>
            <a:off x="179280" y="4941720"/>
            <a:ext cx="8553600" cy="1248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go.mail.ru/click?url=http%3A%2F%2Fcharmedsyper.4bb.ru%2Fimg%2Favatars%2F0001%2F67%2F2b%2F17.gif&amp;title=imgfull"/>
          <p:cNvPicPr/>
          <p:nvPr/>
        </p:nvPicPr>
        <p:blipFill>
          <a:blip r:embed="rId4"/>
          <a:stretch/>
        </p:blipFill>
        <p:spPr>
          <a:xfrm>
            <a:off x="4716360" y="4437000"/>
            <a:ext cx="1428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go.mail.ru/click?url=http%3A%2F%2Fwww.150solsozera.edusite.ru%2FDswMedia%2Fp1010035.jpg&amp;title=imgfull"/>
          <p:cNvPicPr/>
          <p:nvPr/>
        </p:nvPicPr>
        <p:blipFill>
          <a:blip r:embed="rId1"/>
          <a:stretch/>
        </p:blipFill>
        <p:spPr>
          <a:xfrm>
            <a:off x="179280" y="115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www.fakttv.ru/img/news/10/1873add01.jpg"/>
          <p:cNvPicPr/>
          <p:nvPr/>
        </p:nvPicPr>
        <p:blipFill>
          <a:blip r:embed="rId2"/>
          <a:stretch/>
        </p:blipFill>
        <p:spPr>
          <a:xfrm>
            <a:off x="5364000" y="404640"/>
            <a:ext cx="2932200" cy="278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Урок музыки, 2&quot;В&quot;,2003 год, Школа №7, Одинцово, Одинцовский район"/>
          <p:cNvPicPr/>
          <p:nvPr/>
        </p:nvPicPr>
        <p:blipFill>
          <a:blip r:embed="rId3"/>
          <a:stretch/>
        </p:blipFill>
        <p:spPr>
          <a:xfrm>
            <a:off x="4643280" y="3789360"/>
            <a:ext cx="4291200" cy="2836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go.mail.ru/click?url=http%3A%2F%2Ffirststep-sv.narod.ru%2Fpic%2F10.gif&amp;title=imgfull"/>
          <p:cNvPicPr/>
          <p:nvPr/>
        </p:nvPicPr>
        <p:blipFill>
          <a:blip r:embed="rId4"/>
          <a:stretch/>
        </p:blipFill>
        <p:spPr>
          <a:xfrm>
            <a:off x="611280" y="3933720"/>
            <a:ext cx="32605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go.mail.ru/click?url=http%3A%2F%2Fsextalk.ru%2Fgal%2Fdata%2F3287%2F10273inf_2168_hug-thumb.jpg&amp;title=imgfull"/>
          <p:cNvPicPr/>
          <p:nvPr/>
        </p:nvPicPr>
        <p:blipFill>
          <a:blip r:embed="rId1"/>
          <a:stretch/>
        </p:blipFill>
        <p:spPr>
          <a:xfrm>
            <a:off x="158760" y="214200"/>
            <a:ext cx="8804160" cy="6357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1071720" y="1214280"/>
            <a:ext cx="7358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нение музыки для оздоровления людей имеет очень давнюю историю. Достаточно вспомнить наших первобытных предков, которые использовали звуки и танцы для того, чтобы управлять силами природы, излечивать болезни и призывать добрых дух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go.mail.ru/click?url=http%3A%2F%2Fwww.apatity.fio.ru%2Fprojects%2Fpr1324%2Findex.files%2Fimage001.gif&amp;title=imgfull"/>
          <p:cNvPicPr/>
          <p:nvPr/>
        </p:nvPicPr>
        <p:blipFill>
          <a:blip r:embed="rId1"/>
          <a:stretch/>
        </p:blipFill>
        <p:spPr>
          <a:xfrm>
            <a:off x="1042920" y="1773360"/>
            <a:ext cx="66438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megatavr.com/rus/articles/images/02/AM.jpg"/>
          <p:cNvPicPr/>
          <p:nvPr/>
        </p:nvPicPr>
        <p:blipFill>
          <a:blip r:embed="rId1"/>
          <a:stretch/>
        </p:blipFill>
        <p:spPr>
          <a:xfrm>
            <a:off x="214200" y="177840"/>
            <a:ext cx="8715600" cy="65023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2286000" y="1143000"/>
            <a:ext cx="528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сокую оценку лечебное воздействие музыки получило в медицинских науках Египта, Древней Греции, Античного Ри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mahabhava.ru/musicinstruments/2200-3.jpg"/>
          <p:cNvPicPr/>
          <p:nvPr/>
        </p:nvPicPr>
        <p:blipFill>
          <a:blip r:embed="rId1"/>
          <a:stretch/>
        </p:blipFill>
        <p:spPr>
          <a:xfrm>
            <a:off x="357120" y="214200"/>
            <a:ext cx="8643960" cy="65008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857160" y="21420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В средние века в культовых обрядах музыка выступала как способ гармонизации чув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http://www.sunhome.ru/UsersGallery/Psycho/03200631132905.jpg"/>
          <p:cNvPicPr/>
          <p:nvPr/>
        </p:nvPicPr>
        <p:blipFill>
          <a:blip r:embed="rId1"/>
          <a:stretch/>
        </p:blipFill>
        <p:spPr>
          <a:xfrm>
            <a:off x="428760" y="285840"/>
            <a:ext cx="1785960" cy="60721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2286000" y="428760"/>
            <a:ext cx="66438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alibri"/>
              </a:rPr>
              <a:t>Немного истории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О благотворном влиянии музыки знали давно, еще в глубокой древности. Первым оценил лечебное действие звуков Пифагор. Он же, кстати, и предложил понятие “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узыка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льной медицины”. Одни мелодии великий ученый использовал “чтобы лечить пассивность души, чтобы не теряла она надежды и не оплакивала себя”, другие мелодии – “против ярости и гнева, против заблуждений души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http://www.medart.ru/images/top_gr.gif"/>
          <p:cNvPicPr/>
          <p:nvPr/>
        </p:nvPicPr>
        <p:blipFill>
          <a:blip r:embed="rId1"/>
          <a:stretch/>
        </p:blipFill>
        <p:spPr>
          <a:xfrm>
            <a:off x="714240" y="500040"/>
            <a:ext cx="8001000" cy="2428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714760" y="3286080"/>
            <a:ext cx="5857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Впервые в истории человечества найден способ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метрологической расшифровки тайны веков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-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воздействия музыки на здоровье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928960" y="285840"/>
          <a:ext cx="5738760" cy="1428840"/>
        </p:xfrm>
        <a:graphic>
          <a:graphicData uri="http://schemas.openxmlformats.org/drawingml/2006/table">
            <a:tbl>
              <a:tblPr/>
              <a:tblGrid>
                <a:gridCol w="1757520"/>
                <a:gridCol w="3981240"/>
              </a:tblGrid>
              <a:tr h="24120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7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06" descr="http://www.altzdrav.ru/sudz/zmuzt11.jpg"/>
          <p:cNvPicPr/>
          <p:nvPr/>
        </p:nvPicPr>
        <p:blipFill>
          <a:blip r:embed="rId1"/>
          <a:stretch/>
        </p:blipFill>
        <p:spPr>
          <a:xfrm>
            <a:off x="214200" y="142920"/>
            <a:ext cx="8643960" cy="200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42920" y="2203920"/>
            <a:ext cx="88581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Музыка- один из древнейших гармонизаторов здоровья человека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оступных как практикующим врачам терапевтам, так и каждому из их пациен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независимо от приобретенного заболевания.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Ибо музыка - это дух, душа, звучащая по особым канонам природы, частица которой и есть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  <a:ea typeface="Times New Roman"/>
              </a:rPr>
              <a:t>Сергей Судзиловский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заслуженный артист Российской Федерации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  <a:ea typeface="Times New Roman"/>
              </a:rPr>
              <a:t>  солист Московской Государственной филармонии,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  <a:ea typeface="Times New Roman"/>
              </a:rPr>
              <a:t>лауреат всероссийских и международных кон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http://www.altzdrav.ru/sudz/10.gif"/>
          <p:cNvPicPr/>
          <p:nvPr/>
        </p:nvPicPr>
        <p:blipFill>
          <a:blip r:embed="rId2"/>
          <a:stretch/>
        </p:blipFill>
        <p:spPr>
          <a:xfrm>
            <a:off x="357120" y="4143240"/>
            <a:ext cx="5000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42960" y="142920"/>
            <a:ext cx="5143320" cy="70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Calibri"/>
              </a:rPr>
              <a:t>Музыка укрепляет здоровье младенцев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Ученые заявляют, что здоровье новорожденных значительно улучшается, если им дать послушать успокоительную музыку.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www.beseder.co.il/wp-content/uploads/2005/08/1124698552.jpg"/>
          <p:cNvPicPr/>
          <p:nvPr/>
        </p:nvPicPr>
        <p:blipFill>
          <a:blip r:embed="rId1"/>
          <a:stretch/>
        </p:blipFill>
        <p:spPr>
          <a:xfrm>
            <a:off x="6000840" y="142920"/>
            <a:ext cx="250020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Малыш и музыка"/>
          <p:cNvPicPr/>
          <p:nvPr/>
        </p:nvPicPr>
        <p:blipFill>
          <a:blip r:embed="rId2"/>
          <a:stretch/>
        </p:blipFill>
        <p:spPr>
          <a:xfrm>
            <a:off x="500040" y="4643280"/>
            <a:ext cx="2619360" cy="2071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/>
          <p:cNvSpPr/>
          <p:nvPr/>
        </p:nvSpPr>
        <p:spPr>
          <a:xfrm>
            <a:off x="4214880" y="5429160"/>
            <a:ext cx="4714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Благотворней всего на младенцев влияют произведения Вольфанга Моцарт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http://go.mail.ru/click?url=http%3A%2F%2Fdvt-music.narod.ru%2FMuzslov-18.files%2Fimage006.jpg&amp;title=imgfull"/>
          <p:cNvPicPr/>
          <p:nvPr/>
        </p:nvPicPr>
        <p:blipFill>
          <a:blip r:embed="rId3"/>
          <a:stretch/>
        </p:blipFill>
        <p:spPr>
          <a:xfrm>
            <a:off x="1857240" y="3357720"/>
            <a:ext cx="7124760" cy="124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Малыш и музыка"/>
          <p:cNvPicPr/>
          <p:nvPr/>
        </p:nvPicPr>
        <p:blipFill>
          <a:blip r:embed="rId4"/>
          <a:stretch/>
        </p:blipFill>
        <p:spPr>
          <a:xfrm>
            <a:off x="4786200" y="3000240"/>
            <a:ext cx="22147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66cc"/>
                </a:solidFill>
                <a:latin typeface="Times New Roman"/>
              </a:rPr>
              <a:t>Музыка и сердце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856880" y="5500800"/>
            <a:ext cx="675036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узыка</a:t>
            </a:r>
            <a:r>
              <a:rPr b="0" lang="en-US" sz="2400" spc="-1" strike="noStrike" u="sng">
                <a:solidFill>
                  <a:srgbClr val="898989"/>
                </a:solidFill>
                <a:uFillTx/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влияет на работу сердца и на артериальное давл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2"/>
          <a:stretch/>
        </p:blipFill>
        <p:spPr>
          <a:xfrm>
            <a:off x="1785960" y="1857240"/>
            <a:ext cx="645156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5:23:07Z</dcterms:created>
  <dc:creator>таня</dc:creator>
  <dc:description/>
  <dc:language>en-US</dc:language>
  <cp:lastModifiedBy>Мишa</cp:lastModifiedBy>
  <dcterms:modified xsi:type="dcterms:W3CDTF">2010-01-29T01:44:16Z</dcterms:modified>
  <cp:revision>81</cp:revision>
  <dc:subject/>
  <dc:title>Музыка и здоровье</dc:title>
</cp:coreProperties>
</file>